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888-659F-41BB-8B02-D2861641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B35-F26E-444C-941B-4A8171DF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94C-F00E-4230-A6D0-475107CE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3EE-DE33-4EB3-BA58-2BF56855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B0A7-DAB2-4542-AA00-2E501872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B98E-EC23-4964-9ECA-115B0AEA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F1CB-2A5E-40B1-AF93-DDC6031C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1C1F-FF50-4C50-A929-E8B8ABC0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D268-783C-434B-B13E-EBC9799B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EAE3-34DD-456A-A740-F981323D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4E72-89FB-476D-A91D-C1D4342A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B25-5186-482C-8D90-26A06323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8CE6-F442-43E9-8544-283804EE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2190-9CAE-4841-A9FD-ADDC3CCF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D06B-5871-4679-A475-9916D55E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266D-60DA-4823-A126-252B5DFC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18D3-600C-4770-9C6B-2724C210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B82-07A6-41AD-9554-9DDF76DE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E11B-E418-48A7-BC80-D8D21B36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356-79D0-45F0-AFF9-2EC92AC0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9DB-F55F-4D36-99D8-133C935B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1E5-60A4-4226-B295-E3328E82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724-68CC-43DE-9475-A8F6CDC6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74C-1F50-4120-99BB-38444EC6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657C-A2CD-4F54-B4EF-E5DE2FD331A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D63F-B836-4EE7-9C23-F71B15B21F3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Kunstler Script"/>
              </a:rPr>
              <a:t>                       </a:t>
            </a:r>
            <a:r>
              <a:rPr b="0" lang="en-US" sz="4400" spc="-1" strike="noStrike">
                <a:solidFill>
                  <a:srgbClr val="66ffff"/>
                </a:solidFill>
                <a:latin typeface="Kunstler Script"/>
              </a:rPr>
              <a:t>Problems in Russi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Kunstler Script"/>
              </a:rPr>
              <a:t>By Jason Xia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Advantages vs disadvantag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0:50:55Z</dcterms:created>
  <dc:creator>QPS</dc:creator>
  <dc:description/>
  <dc:language>en-US</dc:language>
  <cp:lastModifiedBy>QPS</cp:lastModifiedBy>
  <dcterms:modified xsi:type="dcterms:W3CDTF">2010-04-21T01:23:06Z</dcterms:modified>
  <cp:revision>2</cp:revision>
  <dc:subject/>
  <dc:title>Slide 1</dc:title>
</cp:coreProperties>
</file>